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23A6-3EEF-43F2-A3D4-6E744BD7E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6DB0-7516-4453-A7F6-FA4836764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53C0-03A6-44A5-875A-36D7DD1E8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173-C08E-426A-963B-7D2E2D8A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B77-CA82-4854-B2C0-5FB8CE44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27C-7832-4626-9A92-97BB9340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C5B-3C54-4119-A218-6D74985E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0DE-BA07-4451-B19B-2D4752A0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71A-AA73-4D3C-A4EB-9E7E4AE8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A443-62E1-4B58-A24C-4D938861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114-F539-4DD9-AE40-EF83486F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085-D0D1-4C40-8865-FEE6DA8D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402-7315-44FB-AD89-823843B6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2FF-43F2-4F0B-9609-52E68D35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F02-BAD0-4F60-85E2-DCEC8AB4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682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577800" y="6348240"/>
            <a:ext cx="363600" cy="433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D:\Publications\LOGO's\ILRI-logo-small.jpg"/>
          <p:cNvPicPr/>
          <p:nvPr/>
        </p:nvPicPr>
        <p:blipFill>
          <a:blip r:embed="rId3"/>
          <a:stretch/>
        </p:blipFill>
        <p:spPr>
          <a:xfrm>
            <a:off x="76320" y="6400800"/>
            <a:ext cx="37152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682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577800" y="6348240"/>
            <a:ext cx="363600" cy="433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D:\Publications\LOGO's\ILRI-logo-small.jpg"/>
          <p:cNvPicPr/>
          <p:nvPr/>
        </p:nvPicPr>
        <p:blipFill>
          <a:blip r:embed="rId3"/>
          <a:stretch/>
        </p:blipFill>
        <p:spPr>
          <a:xfrm>
            <a:off x="76320" y="6400800"/>
            <a:ext cx="37152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682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577800" y="6348240"/>
            <a:ext cx="363600" cy="433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D:\Publications\LOGO's\ILRI-logo-small.jpg"/>
          <p:cNvPicPr/>
          <p:nvPr/>
        </p:nvPicPr>
        <p:blipFill>
          <a:blip r:embed="rId3"/>
          <a:stretch/>
        </p:blipFill>
        <p:spPr>
          <a:xfrm>
            <a:off x="76320" y="6400800"/>
            <a:ext cx="37152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682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577800" y="6348240"/>
            <a:ext cx="363600" cy="4334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9" descr="D:\Publications\LOGO's\ILRI-logo-small.jpg"/>
          <p:cNvPicPr/>
          <p:nvPr/>
        </p:nvPicPr>
        <p:blipFill>
          <a:blip r:embed="rId3"/>
          <a:stretch/>
        </p:blipFill>
        <p:spPr>
          <a:xfrm>
            <a:off x="76320" y="6400800"/>
            <a:ext cx="37152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2"/>
          <p:cNvGrpSpPr/>
          <p:nvPr/>
        </p:nvGrpSpPr>
        <p:grpSpPr>
          <a:xfrm>
            <a:off x="1228680" y="6543720"/>
            <a:ext cx="6705720" cy="231120"/>
            <a:chOff x="1228680" y="6543720"/>
            <a:chExt cx="6705720" cy="231120"/>
          </a:xfrm>
        </p:grpSpPr>
        <p:sp>
          <p:nvSpPr>
            <p:cNvPr id="532" name="TextBox 6"/>
            <p:cNvSpPr/>
            <p:nvPr/>
          </p:nvSpPr>
          <p:spPr>
            <a:xfrm>
              <a:off x="1838160" y="6543720"/>
              <a:ext cx="609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</a:rPr>
                <a:t>The presentation has a Creative Commons licens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Picture 4" descr="P:\Pictures&amp;Resources\Icons\by-nc-sa.png"/>
            <p:cNvPicPr/>
            <p:nvPr/>
          </p:nvPicPr>
          <p:blipFill>
            <a:blip r:embed="rId2"/>
            <a:stretch/>
          </p:blipFill>
          <p:spPr>
            <a:xfrm>
              <a:off x="1228680" y="6554160"/>
              <a:ext cx="598320" cy="21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TextBox 5"/>
          <p:cNvSpPr/>
          <p:nvPr/>
        </p:nvSpPr>
        <p:spPr>
          <a:xfrm>
            <a:off x="9360" y="2303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better lives through live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2295360" y="3149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2123"/>
                </a:solidFill>
                <a:latin typeface="Arial"/>
              </a:rPr>
              <a:t>ilri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7" descr=""/>
          <p:cNvPicPr/>
          <p:nvPr/>
        </p:nvPicPr>
        <p:blipFill>
          <a:blip r:embed="rId3"/>
          <a:stretch/>
        </p:blipFill>
        <p:spPr>
          <a:xfrm>
            <a:off x="998640" y="5257800"/>
            <a:ext cx="7165800" cy="119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682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9BF7-CD30-4F5B-9D8A-604F521B93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682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2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112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0" y="205740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Arial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Arial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1539720" y="4689360"/>
            <a:ext cx="6064560" cy="1940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682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0" y="0"/>
            <a:ext cx="9144000" cy="3500280"/>
          </a:xfrm>
          <a:prstGeom prst="rect">
            <a:avLst/>
          </a:prstGeom>
          <a:solidFill>
            <a:srgbClr val="682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640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10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es followed &amp; lessons learned – Group Feedback -Seriti Ke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95280" y="41911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LATE Training for Africa RISING / NB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dis Ababa / Jeldu. 1 - 5 April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3232"/>
                </a:solidFill>
                <a:latin typeface="Calibri"/>
              </a:rPr>
              <a:t>Lessons drawn from field Process</a:t>
            </a:r>
            <a:endParaRPr b="0" lang="en-US" sz="4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0" y="21337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age of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common understanding reached on weighting and scoreing as well as description of the indica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explanatory guid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indicators identific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ing should represent the diversity (elders, women Headed households, youth, poor, medium and rich…gender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livelihood system: agro-ecolog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232"/>
                </a:solidFill>
                <a:latin typeface="Calibri"/>
              </a:rPr>
              <a:t>Lessons drawn from field Process (Cont’d….)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0" y="15235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estionnaire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 of irrelevant indicators (like moon, sun, air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 description should be understood clearly (is it Access, Availability, ownership et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ing and resource like printer needs to be available during the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 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ing should represent the divers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livelihood system: agro-ec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and negative impacts of giving incentives to the farmers  (concerns for contributing in missing our targe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 barriers/g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232"/>
                </a:solidFill>
                <a:latin typeface="Calibri"/>
              </a:rPr>
              <a:t>Lessons drawn from field Process (Cont’d….)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22860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usehold characteris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ressing  the relationship between  household head and interviewee should be taken into consid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need to be reviewed in the context of the kebe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size (Owned and rent in, shared out), Grazing land was not well addres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unit of the land size should be carefully addressed (Local measurements should be standardized e.g. 1ha=8 kerte/Timad in Seriti kebelle, 1ha=4 timad other areas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vestock: Cattle was not well specified (Heifers, Steer, Calf), Poultry and Beekeeping was not inclu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232"/>
                </a:solidFill>
                <a:latin typeface="Calibri"/>
              </a:rPr>
              <a:t>Lessons drawn from field Process (Cont’d….)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0" y="20570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ight  and Score (Impa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ther Weight is the Relevant vs. Adequacy of the indicator needs to be consider (e.g. Rain fall….) Lack of consis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in one capital Asset many indicators get similar weight  (e.g. Ranking vs Similar weigh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ore impact vs Contribution to livelih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unerability was not considered during the data colle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ighting as compare to other indicators was difficult to far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232"/>
                </a:solidFill>
                <a:latin typeface="Calibri"/>
              </a:rPr>
              <a:t>Lessons drawn from field Process (Cont’d….)</a:t>
            </a:r>
            <a:endParaRPr b="0" lang="en-US" sz="4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0" y="281952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2260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guage Translation was barrier and might have contributed  to  message distor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acilitator should have good Knowledge of the area and langua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collection location should be at FTC or House to house int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eld facilities avaialbility  (field bag, Binder, other stationary material, camera for documentation etc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232"/>
                </a:solidFill>
                <a:latin typeface="Calibri"/>
              </a:rPr>
              <a:t>Lessons drawn from field Process (Cont’d….)</a:t>
            </a:r>
            <a:endParaRPr b="0" lang="en-US" sz="4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0" y="31240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Feed and Interpre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oftware was not user friendly (difficulties on data merging from different compu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 interpretation problem in the Benchmarking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ould have been good to understand the software final  output and how to make conclusions and recomme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6:04:55Z</dcterms:created>
  <dc:creator>TOSHIBA</dc:creator>
  <dc:description/>
  <dc:language>en-US</dc:language>
  <cp:lastModifiedBy>Yasabu, Simret (ILRI)</cp:lastModifiedBy>
  <dcterms:modified xsi:type="dcterms:W3CDTF">2013-04-10T13:09:20Z</dcterms:modified>
  <cp:revision>44</cp:revision>
  <dc:subject/>
  <dc:title>Seriti Kebele Group</dc:title>
</cp:coreProperties>
</file>